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39A-11BB-4B23-A738-2ABCBD9F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F01-EAA4-4C54-8CD4-8443970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A59-6C32-42B5-B193-FC8DE525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851-FFAE-4C53-B0E9-996097B4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5C6-30CB-4957-9292-F6A614FA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02A-E0DB-453C-80C3-E99A3D7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5A0-18E9-4E86-AD3F-EEF4CD8A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896-DC73-4645-A293-A620B1E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9F5-3EA4-4C6C-A39C-7283C99D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FE4-5168-48E1-93E2-8E76ED6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660-BE67-4000-BD09-77226D60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716-671E-4469-9051-27C83EFC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D1AD-6E1A-4864-932C-DF079C7A2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zus.gov.rs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1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ЛИДНОСТ, КЛИНИЧКИ ЗНАЧАЈ И ПРИМЕНЉИВОСТ СМЕРНИЦА (ВОДИЧА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ДОБРЕ ПРАКС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препоруке у смерницама валид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ве могућности при одлучивању и сви могући исходи узети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докази за сваку одлуку идентификов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валидирани и комбиновани на разуман и јасан нач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је оцена пацијената за последице појединих одл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кључујући доброб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ризике и трошко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зета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мернице отпорне на клинички могуће варијације у пракс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е смернице клинички корис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значај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мернице дају могућност за значајно побољшање квалитета прак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ли постоје велике варијације у постојећој пракс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смернице садрже нове доказе који би могли имати важан утицај на поступање са пацијент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ће смернице утицати на поступак са врло великим бројем пацијен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тешким пацијент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пацијентима чије лечење је веома скуп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тако да мале промене у пракси имају велики утицај на исход третмана или његову це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е смернице могу применити у нашој пракс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акве препреке постоје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е могу превазић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наше колеге сарађив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постоје образо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дминистрати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 економски услови потребни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смернице издало тело са стручним ауторитето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неко од угледних колега већ применио смер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су информације из свих извора конзистент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постоји могућност индивидуалних дискусија о примени смерница са здравственим власт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формат смерница погодан за употреб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се смернице могу применити у циљној групи клинича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без потребе за посебном сарадњом спољ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не постоји сукоб са политиком здравственог фон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са политиком здравствених вла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са очекивањима пацијента и са очекивањима зајед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Националне смернице у Србиј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ступне су на веб страници Агенције за акредитацију здравствених устано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azus.gov.r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9:59Z</dcterms:modified>
  <cp:revision>57</cp:revision>
  <dc:subject/>
  <dc:title>Slide 1</dc:title>
</cp:coreProperties>
</file>